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0808-EAFE-4D4C-8791-E6510697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3AE7-B48D-4CFD-80FD-4C90CD57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78B6-627A-4C32-9C92-84AFC280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C7C4-3F92-4715-BE92-E2DD99CF7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3DF4-3DED-448E-A258-71A33A969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9A23-660F-4373-A9E4-63D21AD6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12E6-0190-4D80-A5DA-C3344284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D792-C537-49FC-AC40-14D9C7DF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C47E-A1AE-403F-9348-8E81A79D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5C6E-8AAD-4D98-9588-4A40BAAE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97F7-96B0-4F79-AC6B-D2FCB36C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AF22-48B5-4E8D-84B6-DC39790F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5F7D-09FE-4D6C-B49C-A6BF4508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EC85-F5B5-4F3E-A358-632E81F7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5F40-4E13-4DDC-88CA-EE252DD1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BD19-5ECC-4F68-8C95-611F53A4D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AB5C-02D2-4B89-B53C-EA61F4C8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35B4-8C89-45BD-B67D-310695C2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FE7B-424A-4A98-8870-39284C2A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DF0C-EB33-4223-AFE4-F35812FD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4EA4-0A51-4516-8C68-0A8F274B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968A-00B8-44F2-AAAC-5EBBDB43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661F-B89E-497B-A90E-AECB2EAB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0C0B-108D-45DF-B75C-391BECDC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37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3e7"/>
                    </a:gs>
                    <a:gs pos="100000">
                      <a:srgbClr val="9f237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03e7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03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8D73-DDF0-45DF-BCE7-25162A630AF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f237f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9f237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03e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03e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DCCC-0E56-4E3D-A08E-83BC2312C07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"/>
              </a:rPr>
              <a:t>La clase de espanol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comic"/>
              </a:rPr>
              <a:t>nijay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los deport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733920" cy="5334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8:25:09Z</dcterms:created>
  <dc:creator>WSFCS Workstation</dc:creator>
  <dc:description/>
  <dc:language>en-US</dc:language>
  <cp:lastModifiedBy>WSFCS Workstation</cp:lastModifiedBy>
  <dcterms:modified xsi:type="dcterms:W3CDTF">2010-04-30T18:55:51Z</dcterms:modified>
  <cp:revision>2</cp:revision>
  <dc:subject/>
  <dc:title>La clase de espanol</dc:title>
</cp:coreProperties>
</file>